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A38-E15F-48DB-8834-50F11EF9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397-A583-4A83-8F9B-EEF10A10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782-EC64-4E7E-BAE9-0132D766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7BC-6006-41FB-99C5-A4D7ED72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C55-B616-4C28-9C09-C631EF2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DA6-C7D2-48C8-A85A-9A0498A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C34-1539-4257-A715-123FED76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203-3F8F-4066-A0F0-B311743B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2E5-F2CD-4882-8A27-E8A06822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6A9-27E5-4270-B1EA-E0F6B83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2C9-831C-470A-8B7D-4662943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87B-FA57-464E-B36A-1306582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A11-90DD-4C1B-96AB-19F3B1AF7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ton – klasni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nos KS i t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523960"/>
            <a:ext cx="82296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09:36Z</dcterms:created>
  <dc:creator>Andrija Bosnjakovic</dc:creator>
  <dc:description/>
  <dc:language>en-US</dc:language>
  <cp:lastModifiedBy>Andrija Bosnjakovic</cp:lastModifiedBy>
  <dcterms:modified xsi:type="dcterms:W3CDTF">2009-12-23T11:14:12Z</dcterms:modified>
  <cp:revision>2</cp:revision>
  <dc:subject/>
  <dc:title>Composite – klasni dijagram</dc:title>
</cp:coreProperties>
</file>