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74E-141F-4D7C-B437-2CD122F3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024-6542-460B-9274-F93FB271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320-6825-4CCB-8045-DBA54C6D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3A8-E6C2-45EB-838F-96423A3D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0DB-4ED2-43F3-B80B-F45E7BB1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D84-EA37-43C5-A981-E835311F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64D-4604-46AE-BD30-A787AE41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CCB-5215-41B9-A08F-E1E527AF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58D-784A-4FEF-A0BA-ED7D7EF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7EB-08FC-413F-AC3C-6407F7F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D9D-47D6-4CF0-8A74-D0D26D5A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2D5-F335-419B-AA0E-F089F366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83AA-8DE5-4E3B-8C8D-1EF4211C0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– klasni dij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265400"/>
            <a:ext cx="746784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var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8000" y="1028880"/>
            <a:ext cx="838512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otre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240" y="1406520"/>
            <a:ext cx="9147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8000" y="1174680"/>
            <a:ext cx="83851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09:36Z</dcterms:created>
  <dc:creator>Andrija Bosnjakovic</dc:creator>
  <dc:description/>
  <dc:language>en-US</dc:language>
  <cp:lastModifiedBy>Andrija Bosnjakovic</cp:lastModifiedBy>
  <dcterms:modified xsi:type="dcterms:W3CDTF">2009-12-23T11:18:19Z</dcterms:modified>
  <cp:revision>3</cp:revision>
  <dc:subject/>
  <dc:title>Composite – klasni dijagram</dc:title>
</cp:coreProperties>
</file>