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ABFA-981D-4282-9A2F-B82D8D8D7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0CD6-A70D-408C-B2E2-17C88730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0C37-7C4D-436B-8D95-FE8591308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94FA-0567-493F-A322-D3F36575D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BFD7-C9E6-4B69-BF52-8203CA897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48A1-EE9F-4D6A-865A-7AABE968F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162F-C654-4164-8BD8-B6141BBDE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1C96-4FDD-4C95-A645-56D258BCD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C81B-B013-459D-9F4F-3F1DC5A20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BD8C-D2BF-4116-8F58-F1F1AF16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8A18-0519-4A76-931B-A18A9670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9902-8131-486B-BA00-7ABE9618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A8D3C-B4D6-46EF-B898-6DB9C5202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site – klasni dij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1265400"/>
            <a:ext cx="7467840" cy="51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varan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78000" y="1028880"/>
            <a:ext cx="8385120" cy="62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otreb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3240" y="1406520"/>
            <a:ext cx="91472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van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78000" y="1174680"/>
            <a:ext cx="8385120" cy="61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3T11:09:36Z</dcterms:created>
  <dc:creator>Andrija Bosnjakovic</dc:creator>
  <dc:description/>
  <dc:language>en-US</dc:language>
  <cp:lastModifiedBy>Andrija Bosnjakovic</cp:lastModifiedBy>
  <dcterms:modified xsi:type="dcterms:W3CDTF">2009-12-23T11:18:19Z</dcterms:modified>
  <cp:revision>3</cp:revision>
  <dc:subject/>
  <dc:title>Composite – klasni dijagram</dc:title>
</cp:coreProperties>
</file>